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F4E-82E4-4309-B841-D0AFBF30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1FA-DA44-4495-AC46-021C85B8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3C2-E5B6-470C-B464-6831F8FC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A78-22FF-4175-8836-89E61D89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777-4A79-48F6-B9AE-D86BBFAD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38B-96A6-4926-9075-CB400313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22A-B314-4DB5-ADB3-DAB5EFE9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75F-BDF1-4686-ADE7-0A2223BF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B25-90BE-4A45-B506-92B40150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EA2-EA4A-4686-96A3-E922D5B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8A4-4B20-4BA0-8627-DF7ACCDF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D52-C296-42A4-8547-1CA4C0E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8895-7D97-440D-8EED-29A01687DE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1981080"/>
            <a:ext cx="390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114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39116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391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09680" y="5791320"/>
            <a:ext cx="4737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467840" cy="175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86600" cy="1019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7010280" cy="99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6933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9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73915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6:16Z</dcterms:modified>
  <cp:revision>206</cp:revision>
  <dc:subject/>
  <dc:title>Slide 1</dc:title>
</cp:coreProperties>
</file>